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6DD-BEC9-46ED-A79A-D71D9205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384-41F0-4BDA-B6FD-B3D84BD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FB3-4FE6-4C78-889B-8E6344B4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A93-1660-4694-A984-C0F0C075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FF4-2012-41A2-AE26-65952D9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AA4-FEDC-47F3-B87C-96A40156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44F-4D29-400B-B2AB-5391D8A6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779-7EDC-4D96-B807-90FBEEEC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DA2-3B4C-41C2-A706-59E22D38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B90-0CBE-46A7-9030-E3CE4168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355-D2B5-416D-BEB1-C28F5E7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432-AAA6-421D-A868-4E20969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3CE3-2339-4F9F-876B-CFD9318C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3184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1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26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n ustedes al te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una mascota. _____ un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stra escuela ______ un equipo de beisbol bu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ú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muchos pr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41120" y="52578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tem-cha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verbs are also known a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OOT 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when conjugated in the following form, only the verb INSIDE the book tak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4282920"/>
          <a:ext cx="8991360" cy="2498760"/>
        </p:xfrm>
        <a:graphic>
          <a:graphicData uri="http://schemas.openxmlformats.org/drawingml/2006/table">
            <a:tbl>
              <a:tblPr/>
              <a:tblGrid>
                <a:gridCol w="2371680"/>
                <a:gridCol w="2206440"/>
                <a:gridCol w="2206800"/>
                <a:gridCol w="22064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 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 beg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2"/>
          <p:cNvSpPr/>
          <p:nvPr/>
        </p:nvSpPr>
        <p:spPr>
          <a:xfrm>
            <a:off x="2438280" y="481500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438280" y="534816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438280" y="5867280"/>
            <a:ext cx="22100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85800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685800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6858000" y="5867280"/>
            <a:ext cx="21272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4648320" y="5867280"/>
            <a:ext cx="221616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864480" y="5867280"/>
            <a:ext cx="2120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2438280" y="6442200"/>
            <a:ext cx="449604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er Oral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604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rcicio 1, p. 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jugador mete un gol cuando el balon no entra en la por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jugadores vuelven al campo despues del 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jugadores forman un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quipo pierde y el otro g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jugadora puede lanzar el balon con el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ficionados juegan en el 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juegan futbol en los paises hispanos, los jugadores no pueden tocar el balon con las 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5-01-26T14:28:20Z</cp:lastPrinted>
  <dcterms:modified xsi:type="dcterms:W3CDTF">2015-01-26T16:52:56Z</dcterms:modified>
  <cp:revision>39</cp:revision>
  <dc:subject/>
  <dc:title>Me llamo ___________  Clase 7 IM La fecha es el 18 de noviembre del 2010</dc:title>
</cp:coreProperties>
</file>